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89C7-5B4B-4578-9E71-2B28DCA56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21DE-D6DC-49D2-ACB9-3AB7AE02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D1AA0B-2F0D-4154-A680-7B18E9CB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310596-F419-46B5-A63A-B3136BFD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C938E2-B993-4FB9-B0FB-2E808DC0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510AD9-A123-42B0-A0B7-F888F149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4C0CA5-9763-4B04-8EEE-6CDF1CBE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1F69BA-597A-47C8-88DF-8859CB9C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FBED82-9D44-4C67-9F16-32E677AB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8FF6FA-791D-4E02-BC00-81E909698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BE1CAB-5F6B-46D8-B8A7-C3A49C1D7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250096-0E2D-4D53-8149-C7DBBA990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9493-B97F-4D47-B475-656A1B3AA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EC10EA-9B2D-48EB-B55A-5EDB4CB3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9C55D0-EBBE-4EC7-906C-C95B842C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AB976D-D8E8-48DA-809A-253A167A0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6FF607-4B5E-4BAB-A4FA-C5812F4E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4B60CA-27DE-4A39-B06E-BD05D25BC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21E6FF-E56E-47E8-BBB7-F5671840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7DA78F-4EE0-4A61-848B-72B10645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12ACA3-007D-4DB8-B5DB-51F749A9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ACF07B-DFFD-446A-8D64-11DB4DEA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A18661-33FB-423F-829A-7827D32F9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6AEF-D574-4F7A-8134-29EB877BE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4AF150-C33D-4286-B307-539CC80D1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03932A-3858-46A8-8B59-3F70061C1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0A6C3A-0EE0-4183-9597-AE09BC3B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1FF0EE-C7B3-4EDB-A30A-C893EC87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41D876-56FA-4AD1-8F12-DC8EC684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1DDB4E-8FD6-42F4-918D-A23D80C9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AD5B1F-35FC-4C68-83C6-EA4CA5F5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8B7E96-F6A7-49D5-8BAB-E2305F13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484670-B767-4E14-B260-164793A8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77F141-1E4C-4D6D-9E93-9A6D6636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9547B-BA80-46B1-9A47-6762536F4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EFF253-0BC7-467A-A959-DDCDB22E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28F5A4-F72D-4313-9392-D46948A96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4282C4-C999-4936-8872-032848C58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F55C4D-CC54-482D-A07F-3C58E17B0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936FE6-0410-462F-AD7F-8D61D55E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BE450A-AFBF-4462-A193-9C071D75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0D3ED0-F907-43B4-8672-BFDA460FF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4C0655-6DBA-4AF4-894F-ECA66264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3C384A-8814-4CB3-87E1-CECAA04C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5D2DF1-27C0-4FE5-B76A-9CA50F36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20E1C-FF4F-457E-AFC2-AEFD3CC2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27094B-F6AD-4D20-83E6-2E9039D9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F22429-77E0-4622-94FF-2809BC51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5D951B-806C-4AE9-A38C-27F14D4A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19CB06-A8BB-4B5D-8700-0356EBA9E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6BC223-D6E6-4D4A-87B6-C717235AE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FDDD7-F044-487D-826F-9BDD122EC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23795-58A3-4C7D-ABFF-EE7712080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5CFD-BF48-4356-A3BC-B08B2E1D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9481-C0B6-4117-AA57-DDFE1C4E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4AE58-B567-4612-8B37-B8E83F4D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8972-F212-48EF-A901-D8B1CBE5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F7EF-79E9-417D-A520-5FCCD93E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4DAFB-466D-4E8D-A339-05F14BB2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0DA8-2751-414A-85EC-4A95BF01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AF7EE-CE11-4E0A-8F25-FE827FB02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80032-774C-4D2E-BC39-B15C6F4AD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3978C-895F-42FF-9CA9-E7E93F2A7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6EB92-4689-4FE6-A9EF-458F5E9E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EF79A-1E26-4194-AA1F-D2B44341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48284-D252-4244-850E-9A549A68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DAB90-3364-40A9-A0B3-94B4142E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849C-DFB8-4678-85E0-B8EC76B9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C8C8A-A1C5-4A10-9444-1F8C3F38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0CA9F-6B33-49A4-A93C-8DEDA1A4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C249A-47F1-4683-8A30-34F86C74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2DACF-A7AC-4DA2-A9B5-874D6317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1EA2A-6020-4DBE-A227-F7C3F68A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E936C-7792-45FB-9098-4E0C6ACFF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7EBA6-03FA-42AC-A2E0-E29677069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2BF19-8DD1-4A3B-94E3-903FBC1AB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75DB1-4E8D-416C-A2B6-2DF9C38B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33D52-C89D-4764-AABD-E36CBD01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B70D-B09C-40C5-A6CD-62C095F53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F22F5-73B7-4139-99D2-8A439E1C6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7CB5B-C049-4C81-B568-BD0D518A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3F24C-72AF-4C10-9913-2AF9F4AD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4BC72-BA6D-4888-B1AF-9969CCFB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E259E-FD5E-4553-906A-4C22042C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42774-E9E1-4BF2-B972-AFADC1F5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F32E9-AAB2-4DBC-8589-296A7A3B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0E9F1-FD28-4E55-A496-5370A47BE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79A37-E7C5-43DF-AD8A-E4F5527B7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CB03E-C6B6-49A2-BC39-07FFC8E8E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289B-2E87-4FB5-812C-D5B110DA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2BD22-DEB4-472D-B3F3-5618EDCD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62C93-EC82-4AF6-8C7C-1A1DEBCF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ECAC0-A836-4B9E-BB19-950B09B9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34396-2731-4AC6-BF8C-8D30CDBFA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95DE9-29C2-44FA-984F-8A7A1D4B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6F300-F56D-46A4-9400-29A7F9AB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74003-97CF-4FA0-A257-4DE329D1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F1436-03B2-49F4-82D1-7C314882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20A48-0BC3-4338-8A82-3D5A5C55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DFC47-6942-4222-811E-A11ED2756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553F-955C-4C72-822E-1A88C565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60EDF-A433-4503-80AC-3AFC84A13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5114E-4C6A-4C0D-B89F-001683DB5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97EEC-5AF8-4203-875B-384F16381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2B997-BD14-48D6-843D-F5E729E0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4FBD1-0507-41F7-AEF8-2617FEB10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D2704-5B75-4E44-B1CA-5BD4B396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7A0C6-A9DA-4FC6-8F42-FAB0B78E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FA002-405E-4518-8A9B-50C490F7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C9FFC-D2D6-45E0-B1C5-E1FBC90B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2DEAC-E2F7-4D80-BDED-AA4F456B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9637-B712-410B-88C7-B198D7FE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34CD5-D868-414A-8241-BDBBAC9F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9FAA6-4F1A-483C-89CD-7EC99E38D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9277A-F8BE-46DA-8A5F-0B53A4AD1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99B8E-A165-4CF8-B9EE-EB0C5C9F8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90D3B-C7A0-4703-8324-E324E4F7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9DB87-DAC7-4991-876A-797E6945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D16E9-269C-4DE9-B4CF-B2A29147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2B3E0-F58E-4D89-B8A9-F17B429F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53B54-8DEB-4FF9-BE0A-31294A51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1B421-7E09-4F05-BE0B-D8423285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706E-36E9-4A8F-8F5B-5C4D7A58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1FF86-C796-4563-8156-B21053FD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8BADD-4F8B-43A3-9953-33981CF4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03E8A-8AC5-424F-99DF-606F9AD0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F286F-0BDC-4C74-AB53-8B70325A7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793BE-B4F6-4F5E-943B-BD91C5114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37B68-4432-4386-9D4E-CA6AC4137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99DE3-B77E-45F3-8FCF-FF1C6FDA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132D68-796F-43CD-9905-5187642B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8AA18-3E1B-4001-8EA1-BB6951B0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C9ED5-F41C-4808-9D4B-9050B5F7B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4EC1-0833-49DD-9FB7-A897F401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2C6EB-D7C4-4936-8B88-B6A1CCA1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6A36F-6150-4256-B49C-3BC52E5C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10028-D9DF-444A-B585-59F8BF9E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8725D-05D0-4E07-9CD4-C33F12EC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61605-4B29-4FBD-87AE-246EA1D4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08419-BC69-4CC4-9AC3-C3DF473C9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2DDB2-77B7-415A-8474-5B46920EE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C446B8-8130-440C-A609-AF92DB551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E61114-7931-474C-B5AA-FA04CAE8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54016B-EAEE-466C-9B6A-AFC42793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468A-7DFE-498D-AF26-E5C24E282AC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EB58-190C-4C88-9712-4CA393BEB70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72701-6407-4447-818D-FF7AD86CD67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E28B-04CC-4DEA-A7D3-BA6506A2484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9EAA4-F891-43A4-A5B9-659053DD057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A08C-F298-4697-8875-322F4547CFD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5CE4-5878-403D-B67E-DBED43CDC64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764C-19F9-4BF5-8792-B2A2599A87B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9382-211B-4895-986C-6CA080F063C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9BA4-061F-4C41-9676-F6065ADEF0E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E001-FE7B-42BC-9285-9C105F0811D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5860-4DC0-4789-9460-B4A03C81F60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89 Ja viem, Pán je záchrancom mojí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a vie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várou v tvár ho uzrieť m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v sláv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iť naveky s ní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u v údolí tieňov sa teší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ým nádherným zasľúbení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s ním ja smie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yť istý, že cieľ dosiahn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ždy s láskou a vrúcnosťou vďačne ho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váliť a velebiť chce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a viem, Pán j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áchrancom mojí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sám slávy neba sa vzdal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môj hriech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Golgote zomre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ne istotu života d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s ním ja smie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yť istý, že cieľ dosiahn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ždy s láskou a vrúcnosťou vďačne ho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váliť a velebiť chc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a vie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 hrobu víťazne vstal Pán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vládne aj nad smrťou sá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v sláve sa vrá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nám na ze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en lásky sľub zanechal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s ním ja smie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yť istý, že cieľ dosiahn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ždy s láskou a vrúcnosťou vďačne ho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váliť a velebiť chc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6-11T16:01:20Z</dcterms:modified>
  <cp:revision>21</cp:revision>
  <dc:subject/>
  <dc:title>Je veľký náš Pán, on slávy je Kráľ Nech do všetkých strán  spev vrúcnych znie chvál.</dc:title>
</cp:coreProperties>
</file>